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275E-DC37-43B7-869C-6C359787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08D9-9F3B-4390-91BD-FEB4129E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8CFE-1060-4EAE-9919-8B390878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27DA-146A-4D68-81F2-638C6AF7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38AE-FA48-4CF5-9EE7-B54DF996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214D-D55D-414B-9E8F-7B5E807D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0C72-982D-4305-954D-3C7B161F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BC33-62B7-496C-A870-7FCDE3B8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037D-91AD-44A2-B795-A0F785ED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FA77-9537-4E32-9B18-ADC69CF8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0C19-AD3A-4A1C-B739-7CD69946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4124-B842-45BA-98B3-6B701CD7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F271-A91D-4A75-9EEC-9F957A66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FCC7-D22D-460E-8A94-F6373B9B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D766-7BB3-4ADD-8EBE-190DA059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2C84-E826-4E62-94C3-F0C70D59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5578-DBAF-4F90-9767-83B4EDA5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FCA3-FF22-4AA8-BDB8-BFCBFE04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AC16-CD62-4F4B-AE09-AC1093E1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9043-8B9C-4A49-AF09-15E39B60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EE2-541B-4387-86E6-4ECF2E6F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F48-747E-4675-B8E4-A2934FF0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C658-B22B-4260-8031-0012769A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CC62-3804-49FD-A147-B315C387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8E70-E52A-4A36-BDB3-DFDAFEC5F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8085-BD62-4C9B-8A59-3CBF7379B7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906840" y="175248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 H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17080" y="1828800"/>
            <a:ext cx="159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LD H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403600" y="1752480"/>
            <a:ext cx="13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53680" y="1752480"/>
            <a:ext cx="16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PR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107000" y="3143160"/>
            <a:ext cx="74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stabbed to death in the Sen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use, Rome, on 15 March 44 BC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903320" y="3168720"/>
            <a:ext cx="26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ulius Caes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107000" y="2895480"/>
            <a:ext cx="759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war was fought over “the Union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the emancipation of slav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889280" y="3168720"/>
            <a:ext cx="39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merican Civil W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724320" y="2514600"/>
            <a:ext cx="721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would you find the phrase, “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eople, by the people, and for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ople?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896840" y="3168720"/>
            <a:ext cx="465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Gettysburg Addr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562040" y="28195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raditionally given credit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wing the first American fla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900800" y="3168720"/>
            <a:ext cx="22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tsy Ro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1925640" y="3168720"/>
            <a:ext cx="666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attle of Normandy took pla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uring what wa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1863360" y="3168720"/>
            <a:ext cx="266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ld War I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1092240" y="2819520"/>
            <a:ext cx="68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was the first president of the USA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1916280" y="3168720"/>
            <a:ext cx="49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is the Bay of Pig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1895760" y="316872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ub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913760" y="3168720"/>
            <a:ext cx="611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th what animals did Hannib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oss the Alps to Ro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1900440" y="316872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epha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1256400" y="2971800"/>
            <a:ext cx="688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countries fought the Hundr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ears Wa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910520" y="31687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ngland and F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1910880" y="3168720"/>
            <a:ext cx="640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killed 100,000 of London’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00,000 population in 1665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908000" y="3168720"/>
            <a:ext cx="33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Great Plag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1920600" y="3168720"/>
            <a:ext cx="667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which war did the Charge of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ght Brigade take pla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1886760" y="3168720"/>
            <a:ext cx="34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rimean W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883160" y="3168720"/>
            <a:ext cx="38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orge Washingt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1917720" y="3168720"/>
            <a:ext cx="520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did Rome fight in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unic War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1899720" y="3168720"/>
            <a:ext cx="18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rth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1920960" y="3168720"/>
            <a:ext cx="58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was Napoleon exiled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1814-1815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1895400" y="316872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b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1918440" y="3168720"/>
            <a:ext cx="55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id Pope Paul III do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nry VIII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1908360" y="3168720"/>
            <a:ext cx="31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communic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1912320" y="3168720"/>
            <a:ext cx="65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 what battle did Joan of Arc le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French Army to a victor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1906920" y="3168720"/>
            <a:ext cx="32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ege of Orlea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1921320" y="3168720"/>
            <a:ext cx="590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 which battle was Xerxes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der of the Persian arm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910160" y="3168720"/>
            <a:ext cx="43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ttle of Thermopyla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787680" y="2666880"/>
            <a:ext cx="793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was queen of England for only nine days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1926000" y="3168720"/>
            <a:ext cx="64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major event lead to the tur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the French Revolu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1923120" y="3168720"/>
            <a:ext cx="649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eheading of King Louis XV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918800" y="3168720"/>
            <a:ext cx="537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temple stands on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ropolis in Athen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1905480" y="3168720"/>
            <a:ext cx="28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arthen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574200" y="2590920"/>
            <a:ext cx="765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the first Christian emper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Rome and founder of Constantinopl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1912680" y="3168720"/>
            <a:ext cx="41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stantine the Gr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516600" y="2819520"/>
            <a:ext cx="802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religion was founded by Pri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utama Siddhartha in the 6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entury BC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1900440" y="3168720"/>
            <a:ext cx="205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ddh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1911240" y="3168720"/>
            <a:ext cx="64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the father of Cleopatra’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n, Ptolemy XV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1903320" y="3168720"/>
            <a:ext cx="26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ulius Caes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6"/>
          <p:cNvSpPr/>
          <p:nvPr/>
        </p:nvSpPr>
        <p:spPr>
          <a:xfrm>
            <a:off x="1295280" y="274320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se exploration of the New World had its quincentenary in 1992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1256760" y="2743200"/>
            <a:ext cx="7239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om which French port were 337,13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lied troops evacuat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May and June 1940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899000" y="316872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unki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6"/>
          <p:cNvSpPr/>
          <p:nvPr/>
        </p:nvSpPr>
        <p:spPr>
          <a:xfrm>
            <a:off x="1905120" y="27432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dy  Jane Gr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912320" y="3168720"/>
            <a:ext cx="43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ristopher Columb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957600" y="2971800"/>
            <a:ext cx="789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became leader of the Russian Peo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fter the October Revolution of 1917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897200" y="316872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n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Jasmin Vant</cp:lastModifiedBy>
  <dcterms:modified xsi:type="dcterms:W3CDTF">2011-04-22T01:51:57Z</dcterms:modified>
  <cp:revision>21</cp:revision>
  <dc:subject/>
  <dc:title>Jeopardy</dc:title>
</cp:coreProperties>
</file>